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2DC-A223-4D67-8518-B7965543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FEC-F3DF-4EEE-A6D7-7205674E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CCB-91AA-4C85-B41F-EF4E1A31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9E9-9170-4881-9F3A-B516B015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EAB-9CE2-43EC-AAA0-7C97E0BB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EE2-7369-4969-86AA-C30A076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179-1E60-4D00-BE17-EDCB8CF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A17-2EBF-4B41-B072-4FD048E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14B-5412-449D-ABBC-4BB0988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C02-DBAA-47AC-AA15-FCAF114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ED7-A0E0-4D4D-953F-2491986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8D7-417F-47B1-8C16-FDA9114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2CE-06EF-4B25-977B-A3E2698E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ional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faculty and future facul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to transform 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343400" cy="341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2240" y="213372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Seminarcolepsy        To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Bio2010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(2003) National Research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 for new biology curricula that better reflect the nature of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ional Academies Summer Institute on Undergraduate Biolog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science in a way that represents the process and natur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ndelsman et al., 2004 Science 304:521-52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WVU Summer Institute on Undergraduate Math and Scienc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is ain’t ya mama’s education worksho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155" t="38693" r="18084" b="5127"/>
          <a:stretch/>
        </p:blipFill>
        <p:spPr>
          <a:xfrm>
            <a:off x="2362320" y="365760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397160"/>
          <a:ext cx="8610120" cy="1117440"/>
        </p:xfrm>
        <a:graphic>
          <a:graphicData uri="http://schemas.openxmlformats.org/drawingml/2006/table">
            <a:tbl>
              <a:tblPr/>
              <a:tblGrid>
                <a:gridCol w="1435320"/>
                <a:gridCol w="1434960"/>
                <a:gridCol w="1434600"/>
                <a:gridCol w="1434960"/>
                <a:gridCol w="1434960"/>
                <a:gridCol w="143532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052160" y="762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240" y="279396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4840" y="2870280"/>
            <a:ext cx="186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osing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/alum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962160" y="914400"/>
            <a:ext cx="1447920" cy="510516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379760"/>
            <a:ext cx="352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392720"/>
            <a:ext cx="883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rning interactive worksh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kward Design, Assessment, Active Learning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versity, Integrating across th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fternoon Group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teaching materials to implement back h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my experience help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artment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al institutes (STEM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3:40:05Z</dcterms:created>
  <dc:creator>michelle</dc:creator>
  <dc:description/>
  <dc:language>en-US</dc:language>
  <cp:lastModifiedBy>michelle</cp:lastModifiedBy>
  <dcterms:modified xsi:type="dcterms:W3CDTF">2011-03-12T17:15:26Z</dcterms:modified>
  <cp:revision>180</cp:revision>
  <dc:subject/>
  <dc:title>Example of Scientific Teaching</dc:title>
</cp:coreProperties>
</file>